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6A8-FB67-43FD-90D4-346F0728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B40-19A5-4622-ADA7-33CA3251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C230C-3477-40CC-805A-94CAAE59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BAD61-4784-4AA1-A9CE-FE61CEAA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219A3-813F-42F5-B44E-7BA2C09F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491B1-DA64-46A9-A599-69254DEA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BEAF3-65D2-4FE1-A0B8-C382137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A8B1B-8317-44FD-8AC3-BD669EB9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610B8-8EB0-4F40-A215-D58E35B6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808EF-5D56-4FEB-B751-AC963798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4C10D-A6BA-40F7-A8E3-D195D9E9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8C39D-A7F8-4F16-AA7B-8E00C1F5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33A-B66A-4168-BFCA-4C0E4667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2DCFE-09D4-4194-9E9F-5617E0C2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220E0-0009-451D-8A74-83430914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9F19D-9065-4EFC-AB8A-6B808E0F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18511-B824-4B53-B248-0C70D607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0627A-632B-4DE6-9C4A-C4860D82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9842C-A3AF-46A5-86B8-514CE72B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638B6-F946-4CF4-8B2F-A6F707E4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1119A-647D-41DC-A493-A976F1A4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476A7-7892-45A8-8B6B-75A9FBB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4DCCE-EAE9-45D6-85E0-32582A3E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D67-2149-4F93-A85D-8853E01E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10375-93D4-4659-BA63-8718B6F8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50EF2-0614-4422-9525-61B5C340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BEA02-1546-41F0-AF96-0E2A865A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2E91F-308C-4F38-A0A5-1C1B9C3C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E52B6-B93E-4BB3-AA37-DE3D874A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7B35A-4242-45B5-A6F4-138A474E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65D92-4938-4745-8DA1-FFE24EF9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90A1F-69B9-44F3-B9EB-5CF2D15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D4EC4-D607-4392-918C-681C6C6A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DA047-2438-432B-8A1F-4B2E3295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6D2D-8AD4-4186-84C2-C512C41E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84F8C-2159-49F7-8C3A-2486EC90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EB19C-3C2F-4FF0-BBF0-15724C0A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76EDF-6EDF-46A6-A85A-09E33934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D6E46-E724-4805-9692-F2D132F4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33418-1FD8-4366-9392-8B3F43A1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F386D-683A-4F51-80A4-D92FD582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AAE39-130A-44E1-B81B-9D657A49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A5F25-0DED-47EB-A8B7-7BFB505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A3295-742E-486D-9F9C-67CFD0A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B5983-68F1-4FC2-9455-66FFE0BE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F43C-D486-4609-A8ED-E39688F2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F7CF6-38AE-497F-9954-9A0ACCE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3C2A0-8094-48F2-984C-B652F8A8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90590-AF9E-489B-B2DA-535CD20F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589A1-23CA-43A0-A305-353CA684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B04C5-6878-484B-B8B4-AC309267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A3E7-A1BB-4C65-87CE-A6DDA639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465B-8373-4A97-AAC9-6C6C3EF9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C163-3B98-4EBE-9D11-399CEB06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7D08-6095-4FEB-A44D-044242A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CE49-2D77-489C-BCC0-95E3919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616-4D68-4713-9E29-2B4F4716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5B9F-7AC8-4AC2-88CA-95078F5A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71CF-EA8E-4694-8CB5-61452195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E485-6F1A-445E-AA33-88EAC098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09D3-81DB-41CA-BFC2-50083205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A9FA-998E-45B0-9DD5-E5C10A38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F8E38-09C5-4BAF-96A4-4C49277E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61B2-6FAA-48BB-BC24-9F7BEB97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F538-78CB-40E0-AB59-9C0AF717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E56A-CA4D-45D3-97C7-B83C5BDB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04C8-910E-499C-A76B-248BD389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4B2-B9DC-46C7-A4BF-058076ED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4AE5-451E-4096-865E-05363D27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10BF-8011-42D7-9475-392474F8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84AF-53B6-44CD-A09E-BD853DF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17A5-57B0-476C-B524-537A8463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91AC-AF7F-4AD3-8162-60C5BC43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EEB1-4796-4413-BC5F-7CC4B1F8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13701-E07B-4813-A50E-721B488D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C16B-770E-4701-8C05-49ECC0B1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E5058-16AC-493C-8B46-2D54159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E0435-DEEC-4893-9D39-023B4190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D9B-9346-4778-88BC-3A09C316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A01BE-D34C-474F-AFC4-71344AB2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C1AD-BBE7-4A03-A89F-684925BC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E1CE-C0AD-47FD-81E3-509D61EE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246E-AD77-4837-A28A-8C2AFEF6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7B3ED-D1E3-42AB-97CD-4AF45F41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81B9-FE86-46BE-A601-1343866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DEE2-2574-4476-B708-66E15F46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2976-797F-4744-9CB9-B72E1068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E4E5-17EF-41F7-8904-A283DBB3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B4BB-E392-4FE6-96E7-0F954468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800-71A5-46FC-949D-56B7AE0D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FCFA9-F8A1-486F-B80D-E9A4E9A6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55D1-BE06-42D1-9F84-11201675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DB3D5-13D2-4885-AA77-A2D18E01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700E-2D9F-4684-80AF-D2888931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4C078-F0B2-4FA0-B4B2-14184715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8C47F-0E3C-4C00-950A-7A89F095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4677-8CBC-4631-A4F4-73063F3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26EF3-E648-4EEF-922A-D9089BE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5401C-0D84-40F4-AF42-36F66AD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153B3-4BD2-411F-8AB8-0C0EC85A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8AA-64D8-4729-8C3D-A9CA3A9D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CB216-D88C-45F9-8C7A-9B7E6D36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4D421-D8D4-4340-969E-022E1EAC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664FF-D0B7-4D6B-A4DF-CAB734F2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6C871-DD12-4205-A429-40CCBDBC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08CD9-34DF-4016-BA3B-85ABDB8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0CE1-9457-4949-9616-0D84738B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A4E7A-5149-438C-817B-9B861E49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35B7D-5947-4C9B-8884-F3FE7D3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406C5-1F29-4C02-8136-58EA1F4F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CEBC-595D-46F2-8A62-156C336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F3F-D354-49C9-B52A-43420EEF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3E3CD-8172-42AF-8610-E864F10D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3AD1-B385-4115-9921-7397ECD0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9400E-6DBD-4602-8E9E-6700D424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BF38D-4F0D-4C9A-9051-44544FE5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B5F87-A6B9-4F1E-A7C2-FC04DAE4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556F0-920B-4AC0-9AC3-FF5241F2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1DBF8-9257-4A4D-ADA1-662B0B0E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03977-F38F-456D-BF6E-6B38B69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964C-221E-49E2-914A-51B0A4EE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8F697-682A-49A8-AAC8-D35BE93E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2A5-991B-4F57-81A9-0BA0251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15016-DECB-4CB1-8649-DE5BA691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BD2A3-E72E-444A-93C2-08616D52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65CFC-C33B-406D-BAC9-CE689A8D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C189F-9EBF-4D9E-A021-11EE79F6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788DB-87C7-4DEF-9CF8-F8AAA159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60E21-CE3D-477D-A593-D9E43BE1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4514F-3272-4A24-96D1-6561F91A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EDF0-6A86-42BF-AC4F-2B235554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0AF97-6A44-4139-9997-58048FF3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111FA-7CA9-473F-9AC5-5B9D392C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B9C-3169-4D43-A432-F661AB1C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9876A-27B2-4EF0-9551-843F223C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11BF0-3A1F-4DD4-8CC0-CD927015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B810D-6259-4207-893B-75B605F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6441B-D2AE-4AFB-B04F-3D0F09C4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7C0C8-EAEF-4D8C-8922-E9641445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72299-07EB-4A10-B136-3C916125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C7DC1-875B-428A-890F-851F3A56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0E4B2-75CC-4F91-A531-E1BA7C4E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648DA-04DF-4EC0-8463-38D265FB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4DEC4-1345-4E7E-95CA-30270655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CFE8-9775-4B36-B302-8B8143BF88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89BB-5D31-4A49-B6FA-93CBC46ABA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3FAD-8693-463E-A57A-99CF1FB40B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C30-E7D1-4AB1-9904-58A66C4B61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C9F2-A233-4331-BDFD-51D2CD9CE5A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E20D-7C40-4BBC-B652-75BEF3B6F7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16C7-A16F-4ACC-B6CA-E030B5B5C2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D411-2BB9-4C1C-9122-3B516A1811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1544-60D3-45E1-B17B-A2DA3BCB09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B302-01D6-4CD2-984A-0DE60CC443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A8D2-9A4E-4959-A4E0-906A514279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16BE-DF9C-45B9-97A1-598127EE8A0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3 Ty, spása sveta odvek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Spása sveta odve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svätý Boží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š zbaviť srdce člove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út hriechu, jarma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pásna krv ho obmy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tiekla z tvojich 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obraz v ňom sa  zaskv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ložil doň Boh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ebe, Láska z Golg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odpustenia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tvojom svätom obja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spásy pozn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srdce rosou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denne zvlaže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ieseň vďačnej rad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znie vždy nadšen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22:42Z</dcterms:modified>
  <cp:revision>17</cp:revision>
  <dc:subject/>
  <dc:title>Je veľký náš Pán, on slávy je Kráľ Nech do všetkých strán  spev vrúcnych znie chvál.</dc:title>
</cp:coreProperties>
</file>